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1675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C9BF8-F73F-4B28-B3EE-EDB07E21F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6AE0A-30D7-4035-929C-5CF5DD88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A3996-D5A3-4DB0-90E2-5451DAA5F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3E9FD-51B6-4755-98ED-423FA1BFC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9A392-73D1-4C89-A4B7-F909EE358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7C862-E90E-4882-930A-5D1BCB4D3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CE910-1683-4C0C-8BCA-190A3A79E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2A096-14D2-4441-9E8E-636A9B5EE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3A02C-784E-4CE2-9F37-3BE07617C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C5F50-3EA8-4399-9A9E-7A1024413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1237-FFD0-474B-B94F-77582E724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770E5-D1B6-4880-A4E5-EB21F102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2F1E0-C48C-47B1-8033-9B1B620A1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B56F2-29F7-464B-BD89-030F96E64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EDF21-4D6A-4D36-97AB-603FE34FC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B0A48-9979-470B-994A-E509F048A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8215A-2339-4DFF-BAC1-528DDB1EA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6658-65E3-4CA9-A710-0FE457AF3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824A0-176D-44F8-B87B-6FBB75C57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1015A-A5E6-428E-A3C9-F21430CD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59D04-A2C0-490B-A25B-6879C5888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1789-2485-49B7-97BE-7AC5D8EC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D2BA-1CC9-48BA-9BD3-1E1DA14CC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91C9F-24CB-4079-9569-0EF0F1887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F25F-177B-4342-9879-3EF5A4762A6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8EAD-9F54-4D2D-8396-3CA3247F52F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ctober 27, 2008</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examples of increasing PSSA scores in the mathematics classroo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can writing be incorporated in mathematics without infringing on the curriculu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can we use writing across the curriculu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we use writing across the curriculu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we motivate students to writ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some different writing strategies that can be used with our student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we implement without students seeing the same ideas and concepts in every clas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numerous activities so that we can alternate activiti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engage disenchanted high school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provide positive feedback to encourage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use these activities without overdoing i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question what we do not know?</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s in the Friday Process</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one</a:t>
            </a:r>
            <a:r>
              <a:rPr b="0" lang="en-US" sz="3200" spc="-1" strike="noStrike">
                <a:solidFill>
                  <a:srgbClr val="ffffff"/>
                </a:solidFill>
                <a:latin typeface="Verdana"/>
              </a:rPr>
              <a:t>: Highlight names, dates, bold face, italicized, titles, and subtit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Two</a:t>
            </a:r>
            <a:r>
              <a:rPr b="0" lang="en-US" sz="3200" spc="-1" strike="noStrike">
                <a:solidFill>
                  <a:srgbClr val="ffffff"/>
                </a:solidFill>
                <a:latin typeface="Verdana"/>
              </a:rPr>
              <a:t>: Read the ques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Three</a:t>
            </a:r>
            <a:r>
              <a:rPr b="0" lang="en-US" sz="3200" spc="-1" strike="noStrike">
                <a:solidFill>
                  <a:srgbClr val="ffffff"/>
                </a:solidFill>
                <a:latin typeface="Verdana"/>
              </a:rPr>
              <a:t>: Read the passa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Four</a:t>
            </a:r>
            <a:r>
              <a:rPr b="0" lang="en-US" sz="3200" spc="-1" strike="noStrike">
                <a:solidFill>
                  <a:srgbClr val="ffffff"/>
                </a:solidFill>
                <a:latin typeface="Verdana"/>
              </a:rPr>
              <a:t>: Open ended respon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n Response Process:</a:t>
            </a:r>
            <a:br>
              <a:rPr sz="4000"/>
            </a:br>
            <a:r>
              <a:rPr b="0" lang="en-US" sz="4000" spc="-1" strike="noStrike">
                <a:solidFill>
                  <a:srgbClr val="ccecff"/>
                </a:solidFill>
                <a:latin typeface="Arial"/>
              </a:rPr>
              <a:t>The Board Message</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tate and answer the promp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from the passage.</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from the passag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from the passage.</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tate and conclu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ents read prompt and </a:t>
            </a:r>
            <a:br>
              <a:rPr sz="4000"/>
            </a:br>
            <a:r>
              <a:rPr b="0" lang="en-US" sz="4000" spc="-1" strike="noStrike">
                <a:solidFill>
                  <a:srgbClr val="ccecff"/>
                </a:solidFill>
                <a:latin typeface="Arial"/>
              </a:rPr>
              <a:t>have no clue</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ve to teacher des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eaking down promp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reaking down the prompt</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roughout 1929, the flawed economic structure began to show signs that it couldn’t sustain itself forever. Write three facts from the story that support this stat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rom the promp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ok for the basic noun-ver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 began to show sign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st way to deliver prompt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ening of school year: full modeling.</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y take three days</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do it every Frida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fic procedure for help.</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k placem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dividu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ole group</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oring model</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oring is based on expect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oring is not based on spelling and conven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I cannot read it, the student must fix 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4-2005</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57.5%</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23%</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19.5%</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ding-Writing Connection</a:t>
            </a:r>
            <a:endParaRPr b="0" lang="en-US" sz="4400" spc="-1" strike="noStrike">
              <a:solidFill>
                <a:srgbClr val="ccecff"/>
              </a:solidFill>
              <a:latin typeface="Arial"/>
            </a:endParaRPr>
          </a:p>
        </p:txBody>
      </p:sp>
      <p:sp>
        <p:nvSpPr>
          <p:cNvPr id="19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Writing-Reading Connection: Critical Thinking</a:t>
            </a:r>
            <a:endParaRPr b="0" lang="en-US" sz="10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ading and writing are similar processes; they are both constructive (Pearson &amp; Tierney, 1984). When individuals read they go through a process that is similar to writing (Tierney &amp; Shanahan, 1991). The outcome of both reading and writing is that the individual constructs his or her own meaning. Given the similarities of these two processes, it is clear that they should be taught together (Tierney &amp; Shanahan, 1991).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though reading and writing are not identical processes, there are many reasons for teaching reading and writing together (Shanahan &amp; Lomax, 1988). Research indicates that when reading and writing are taught together, students achieve better in both areas (Tierney &amp; Shanahan, 1991). One of the most significant benefits is that students become better critical thinkers (Langer &amp; Applebee, 1987). The types of activities that connect reading and writing and appear to lead to improved critical thinking are those that promote individual, personal responses to literature (Tierney &amp; Shanahan, 1991).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66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asons for writing across the curriculum  from Michael Klentschy. Ron DeFronzo. Wendy Binder. </a:t>
            </a:r>
            <a:r>
              <a:rPr b="0" i="1" lang="en-US" sz="4000" spc="-1" strike="noStrike">
                <a:solidFill>
                  <a:srgbClr val="ccecff"/>
                </a:solidFill>
                <a:latin typeface="Arial"/>
              </a:rPr>
              <a:t>www.ebecri.org/media</a:t>
            </a:r>
            <a:r>
              <a:rPr b="0" lang="en-US" sz="4000" spc="-1" strike="noStrike">
                <a:solidFill>
                  <a:srgbClr val="ccecff"/>
                </a:solidFill>
                <a:latin typeface="Arial"/>
              </a:rPr>
              <a:t> </a:t>
            </a:r>
            <a:br>
              <a:rPr sz="4000"/>
            </a:br>
            <a:br>
              <a:rPr sz="4000"/>
            </a:br>
            <a:r>
              <a:rPr b="0" lang="en-US" sz="4000" spc="-1" strike="noStrike">
                <a:solidFill>
                  <a:srgbClr val="ccecff"/>
                </a:solidFill>
                <a:latin typeface="Arial"/>
              </a:rPr>
              <a:t>The East Bay Educational Collaborative in Rhode Island</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view of Literature</a:t>
            </a:r>
            <a:endParaRPr b="0" lang="en-US" sz="4000" spc="-1" strike="noStrike">
              <a:solidFill>
                <a:srgbClr val="ccecff"/>
              </a:solidFill>
              <a:latin typeface="Arial"/>
            </a:endParaRPr>
          </a:p>
        </p:txBody>
      </p:sp>
      <p:sp>
        <p:nvSpPr>
          <p:cNvPr id="197" name="PlaceHolder 2"/>
          <p:cNvSpPr>
            <a:spLocks noGrp="1"/>
          </p:cNvSpPr>
          <p:nvPr>
            <p:ph/>
          </p:nvPr>
        </p:nvSpPr>
        <p:spPr>
          <a:xfrm>
            <a:off x="-360" y="1752120"/>
            <a:ext cx="8915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benefit from strong scaffolding with respect to building explanations from evidence (Songer and Lee, 2003)</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ing, predicting, clarifying, and summarizing are strengthened through scaffolding.  Clarifying promotes comprehension monitoring.  Students benefit from scaffolding when analyzing data and building explanations from evidence.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ug, Krajcik and Marx, 2005)</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process of scaffolded inquiry, reflection and generalization developed students’ metacognitive knowledge. (White and Fredrickson, 1998)</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of Literature</a:t>
            </a:r>
            <a:endParaRPr b="0" lang="en-US" sz="44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riting may force the integration of new ideas and relationships with prior knowledge and encourage personal involvement with the new information (Kleinsasser, et al, 199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ritten and oral language opportunities to explain, describe, predict and integrate new information allow students to make conceptual shifts and facilitate retention (Fellows, 1994)</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380520"/>
            <a:ext cx="891540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ffect of Talk and Writing on Learning Science</a:t>
            </a:r>
            <a:endParaRPr b="0" lang="en-US" sz="3200" spc="-1" strike="noStrike">
              <a:solidFill>
                <a:srgbClr val="ccecff"/>
              </a:solidFill>
              <a:latin typeface="Arial"/>
            </a:endParaRPr>
          </a:p>
        </p:txBody>
      </p:sp>
      <p:sp>
        <p:nvSpPr>
          <p:cNvPr id="201" name="PlaceHolder 2"/>
          <p:cNvSpPr>
            <a:spLocks noGrp="1"/>
          </p:cNvSpPr>
          <p:nvPr>
            <p:ph/>
          </p:nvPr>
        </p:nvSpPr>
        <p:spPr>
          <a:xfrm>
            <a:off x="837720" y="1752120"/>
            <a:ext cx="807732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lk is important for sharing, clarifying, and distributing knowledge among pe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king questions, hypothesizing, explaining, and formulating ideas together are all important mechanisms during peer discussion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riting is an important tool for transforming claims and evidence into knowledge that is more coherent and structur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lk combined with writing appears to enhance the retention of science learning over time. </a:t>
            </a:r>
            <a:endParaRPr b="0" lang="en-US" sz="2400" spc="-1" strike="noStrike">
              <a:solidFill>
                <a:srgbClr val="ffffff"/>
              </a:solidFill>
              <a:latin typeface="Verdana"/>
            </a:endParaRPr>
          </a:p>
        </p:txBody>
      </p:sp>
      <p:sp>
        <p:nvSpPr>
          <p:cNvPr id="202" name=""/>
          <p:cNvSpPr/>
          <p:nvPr/>
        </p:nvSpPr>
        <p:spPr>
          <a:xfrm>
            <a:off x="685800" y="63244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ahoma"/>
              </a:rPr>
              <a:t>(Rivard and Straw,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x Thompson </a:t>
            </a:r>
            <a:br>
              <a:rPr sz="4000"/>
            </a:br>
            <a:r>
              <a:rPr b="0" i="1" lang="en-US" sz="4000" spc="-1" strike="noStrike">
                <a:solidFill>
                  <a:srgbClr val="ccecff"/>
                </a:solidFill>
                <a:latin typeface="Arial"/>
              </a:rPr>
              <a:t>Learning Focused Schools</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ockbridge Valley</a:t>
            </a:r>
            <a:r>
              <a:rPr b="0" lang="en-US" sz="3200" spc="-1" strike="noStrike">
                <a:solidFill>
                  <a:srgbClr val="ffffff"/>
                </a:solidFill>
                <a:latin typeface="Verdana"/>
              </a:rPr>
              <a:t> is using the Learning Focused Teaching Model developed by Max Thompson. Learning Focused Lessons consist of (1) Essential Questions, (2) Vocabulary, (3) Activating Strategy, (4) Teaching Strategies, (5) Summarizing and (6) Extending and Refining Learning. </a:t>
            </a:r>
            <a:endParaRPr b="0" lang="en-US" sz="3200" spc="-1" strike="noStrike">
              <a:solidFill>
                <a:srgbClr val="ffffff"/>
              </a:solidFill>
              <a:latin typeface="Verdana"/>
            </a:endParaRPr>
          </a:p>
        </p:txBody>
      </p:sp>
      <p:sp>
        <p:nvSpPr>
          <p:cNvPr id="205" name=""/>
          <p:cNvSpPr/>
          <p:nvPr/>
        </p:nvSpPr>
        <p:spPr>
          <a:xfrm>
            <a:off x="1650960" y="6203880"/>
            <a:ext cx="204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ntral New Y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2895120"/>
            <a:ext cx="8229600" cy="11401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ecff"/>
                </a:solidFill>
                <a:uFillTx/>
                <a:latin typeface="Arial"/>
              </a:rPr>
              <a:t>What is an Essential Question?</a:t>
            </a:r>
            <a:r>
              <a:rPr b="0" lang="en-US" sz="2000" spc="-1" strike="noStrike">
                <a:solidFill>
                  <a:srgbClr val="ccecff"/>
                </a:solidFill>
                <a:latin typeface="Arial"/>
              </a:rPr>
              <a:t> The essential question is the focus of the lesson. It is linked to NYS standards and tells what the student will understand or do. </a:t>
            </a:r>
            <a:br>
              <a:rPr sz="2000"/>
            </a:br>
            <a:r>
              <a:rPr b="1" lang="en-US" sz="2000" spc="-1" strike="noStrike" u="sng">
                <a:solidFill>
                  <a:srgbClr val="ccecff"/>
                </a:solidFill>
                <a:uFillTx/>
                <a:latin typeface="Arial"/>
              </a:rPr>
              <a:t>Mastery of vocabulary</a:t>
            </a:r>
            <a:r>
              <a:rPr b="0" lang="en-US" sz="2000" spc="-1" strike="noStrike">
                <a:solidFill>
                  <a:srgbClr val="ccecff"/>
                </a:solidFill>
                <a:latin typeface="Arial"/>
              </a:rPr>
              <a:t> is essential to understanding the lesson concept and answering the essential question. Knowing vocabulary has been shown to improve understanding in context by 33%. Graphic organizers are used to help students sort and remember vocabulary.</a:t>
            </a:r>
            <a:br>
              <a:rPr sz="2000"/>
            </a:br>
            <a:r>
              <a:rPr b="1" lang="en-US" sz="2000" spc="-1" strike="noStrike" u="sng">
                <a:solidFill>
                  <a:srgbClr val="ccecff"/>
                </a:solidFill>
                <a:uFillTx/>
                <a:latin typeface="Arial"/>
              </a:rPr>
              <a:t>The activating strategy</a:t>
            </a:r>
            <a:r>
              <a:rPr b="0" lang="en-US" sz="2000" spc="-1" strike="noStrike">
                <a:solidFill>
                  <a:srgbClr val="ccecff"/>
                </a:solidFill>
                <a:latin typeface="Arial"/>
              </a:rPr>
              <a:t> is what "hooks" student interest and "links" to prior knowledge. This part of the lesson focuses on activating the student's initial thinking on the topic. Activating strategies are active and group-focused and may be connected to music, art, current events or other areas of student interest.</a:t>
            </a:r>
            <a:br>
              <a:rPr sz="2000"/>
            </a:br>
            <a:r>
              <a:rPr b="1" lang="en-US" sz="2000" spc="-1" strike="noStrike" u="sng">
                <a:solidFill>
                  <a:srgbClr val="ccecff"/>
                </a:solidFill>
                <a:uFillTx/>
                <a:latin typeface="Arial"/>
              </a:rPr>
              <a:t>A variety of teaching strategies</a:t>
            </a:r>
            <a:r>
              <a:rPr b="0" lang="en-US" sz="2000" spc="-1" strike="noStrike">
                <a:solidFill>
                  <a:srgbClr val="ccecff"/>
                </a:solidFill>
                <a:latin typeface="Arial"/>
              </a:rPr>
              <a:t> are employed to help students understand the concept in depth. The best strategies require active student involvement, making the switch from a teacher-centered to a student-centered classroom. Ideally, the lesson will provide multiple opportunities for practice and collaboration. Graphic organizers are used to help students store and process information as it is learned.</a:t>
            </a:r>
            <a:br>
              <a:rPr sz="2000"/>
            </a:b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895120"/>
            <a:ext cx="8229600" cy="11401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Summarizing</a:t>
            </a:r>
            <a:r>
              <a:rPr b="0" lang="en-US" sz="3600" spc="-1" strike="noStrike">
                <a:solidFill>
                  <a:srgbClr val="ccecff"/>
                </a:solidFill>
                <a:latin typeface="Arial"/>
              </a:rPr>
              <a:t> answers the essential question. Each student is required to summarize.</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5-2006</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2.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82.2%</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15.6%</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6-2007</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1.1%</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67.7%</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29.8%</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1.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vious Succes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2007-2008</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3.2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74%</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20.9%</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1.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are doing</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urnaling: many types and expectations, but clearly being done by man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cing guidelines and rules of journals inside the journal cov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d and then compose a respon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of computers has made composition easier with studen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ticle review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 dur="2000"/>
                                        <p:tgtEl>
                                          <p:spTgt spid="1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7" dur="2000"/>
                                        <p:tgtEl>
                                          <p:spTgt spid="16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22" dur="2000"/>
                                        <p:tgtEl>
                                          <p:spTgt spid="16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2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are doing</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aphic organizer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wer writ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ve students write why they want someth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react to scenarios by explaining what they would d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d from text and then write summary of what was rea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69">
                                            <p:txEl>
                                              <p:pRg st="0" end="0"/>
                                            </p:txEl>
                                          </p:spTgt>
                                        </p:tgtEl>
                                        <p:attrNameLst>
                                          <p:attrName>style.visibility</p:attrName>
                                        </p:attrNameLst>
                                      </p:cBhvr>
                                      <p:to>
                                        <p:strVal val="visible"/>
                                      </p:to>
                                    </p:set>
                                    <p:anim calcmode="lin" valueType="num">
                                      <p:cBhvr additive="base">
                                        <p:cTn id="3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69">
                                            <p:txEl>
                                              <p:pRg st="1" end="1"/>
                                            </p:txEl>
                                          </p:spTgt>
                                        </p:tgtEl>
                                        <p:attrNameLst>
                                          <p:attrName>style.visibility</p:attrName>
                                        </p:attrNameLst>
                                      </p:cBhvr>
                                      <p:to>
                                        <p:strVal val="visible"/>
                                      </p:to>
                                    </p:set>
                                    <p:anim calcmode="lin" valueType="num">
                                      <p:cBhvr additive="base">
                                        <p:cTn id="40"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69">
                                            <p:txEl>
                                              <p:pRg st="2" end="2"/>
                                            </p:txEl>
                                          </p:spTgt>
                                        </p:tgtEl>
                                        <p:attrNameLst>
                                          <p:attrName>style.visibility</p:attrName>
                                        </p:attrNameLst>
                                      </p:cBhvr>
                                      <p:to>
                                        <p:strVal val="visible"/>
                                      </p:to>
                                    </p:set>
                                    <p:anim calcmode="lin" valueType="num">
                                      <p:cBhvr additive="base">
                                        <p:cTn id="46"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69">
                                            <p:txEl>
                                              <p:pRg st="3" end="3"/>
                                            </p:txEl>
                                          </p:spTgt>
                                        </p:tgtEl>
                                        <p:attrNameLst>
                                          <p:attrName>style.visibility</p:attrName>
                                        </p:attrNameLst>
                                      </p:cBhvr>
                                      <p:to>
                                        <p:strVal val="visible"/>
                                      </p:to>
                                    </p:set>
                                    <p:anim calcmode="lin" valueType="num">
                                      <p:cBhvr additive="base">
                                        <p:cTn id="52"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69">
                                            <p:txEl>
                                              <p:pRg st="4" end="4"/>
                                            </p:txEl>
                                          </p:spTgt>
                                        </p:tgtEl>
                                        <p:attrNameLst>
                                          <p:attrName>style.visibility</p:attrName>
                                        </p:attrNameLst>
                                      </p:cBhvr>
                                      <p:to>
                                        <p:strVal val="visible"/>
                                      </p:to>
                                    </p:set>
                                    <p:anim calcmode="lin" valueType="num">
                                      <p:cBhvr additive="base">
                                        <p:cTn id="58"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are doing.</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ose a response to a topic every Monday.</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instorm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acher developed his/her personal writing skill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instorm and then graph a word cou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of the writing proces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h and why journal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lking with other teachers about what they are do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66" dur="500"/>
                                        <p:tgtEl>
                                          <p:spTgt spid="17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71" dur="500"/>
                                        <p:tgtEl>
                                          <p:spTgt spid="17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76" dur="500"/>
                                        <p:tgtEl>
                                          <p:spTgt spid="17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81" dur="500"/>
                                        <p:tgtEl>
                                          <p:spTgt spid="171">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71">
                                            <p:txEl>
                                              <p:pRg st="4" end="4"/>
                                            </p:txEl>
                                          </p:spTgt>
                                        </p:tgtEl>
                                        <p:attrNameLst>
                                          <p:attrName>style.visibility</p:attrName>
                                        </p:attrNameLst>
                                      </p:cBhvr>
                                      <p:to>
                                        <p:strVal val="visible"/>
                                      </p:to>
                                    </p:set>
                                    <p:animEffect filter="checkerboard(across)" transition="in">
                                      <p:cBhvr additive="repl">
                                        <p:cTn id="86" dur="500"/>
                                        <p:tgtEl>
                                          <p:spTgt spid="17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71">
                                            <p:txEl>
                                              <p:pRg st="5" end="5"/>
                                            </p:txEl>
                                          </p:spTgt>
                                        </p:tgtEl>
                                        <p:attrNameLst>
                                          <p:attrName>style.visibility</p:attrName>
                                        </p:attrNameLst>
                                      </p:cBhvr>
                                      <p:to>
                                        <p:strVal val="visible"/>
                                      </p:to>
                                    </p:set>
                                    <p:animEffect filter="checkerboard(across)" transition="in">
                                      <p:cBhvr additive="repl">
                                        <p:cTn id="91" dur="500"/>
                                        <p:tgtEl>
                                          <p:spTgt spid="171">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71">
                                            <p:txEl>
                                              <p:pRg st="6" end="6"/>
                                            </p:txEl>
                                          </p:spTgt>
                                        </p:tgtEl>
                                        <p:attrNameLst>
                                          <p:attrName>style.visibility</p:attrName>
                                        </p:attrNameLst>
                                      </p:cBhvr>
                                      <p:to>
                                        <p:strVal val="visible"/>
                                      </p:to>
                                    </p:set>
                                    <p:animEffect filter="checkerboard(across)" transition="in">
                                      <p:cBhvr additive="repl">
                                        <p:cTn id="96"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2:58:41Z</dcterms:created>
  <dc:creator>JD&amp;A</dc:creator>
  <dc:description/>
  <dc:language>en-US</dc:language>
  <cp:lastModifiedBy>user</cp:lastModifiedBy>
  <dcterms:modified xsi:type="dcterms:W3CDTF">2008-10-28T00:17:26Z</dcterms:modified>
  <cp:revision>10</cp:revision>
  <dc:subject/>
  <dc:title>Slide 1</dc:title>
</cp:coreProperties>
</file>